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E5D-58E8-4434-AD94-0640698A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145-357D-487A-BFD6-7D704499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6E0-C55F-4FA6-97F3-BDE3BE92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FAF-AF7C-4FA8-9111-B2324A6A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66B-36B8-4216-976E-E07FEC99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983-8053-43A3-A52E-1BC53B97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4D8-2A5B-468E-82D3-6127EE19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DF8-E4AC-4026-9227-7E09F0DC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992-9396-4752-889A-E099535A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1D3-F638-4881-A1BC-FCF654F5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B99-A4DA-4B43-84F8-3B2DEEF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F68-B4B2-4359-BF62-8391AE3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8E44-8DF4-457B-BB22-C2CEB3B9DD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.jpg"/>
          <p:cNvPicPr/>
          <p:nvPr/>
        </p:nvPicPr>
        <p:blipFill>
          <a:blip r:embed="rId1"/>
          <a:stretch/>
        </p:blipFill>
        <p:spPr>
          <a:xfrm>
            <a:off x="571680" y="1832040"/>
            <a:ext cx="1293480" cy="111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Calibri"/>
              </a:rPr>
              <a:t>Text W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137160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•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I am trying to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get this text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to wr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137160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•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This is of course not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supported in any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PowerPoint version to 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date.</a:t>
            </a:r>
            <a:r>
              <a:rPr b="0" lang="en-GB" sz="28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4286160" y="21420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4" descr="j0431520.png"/>
          <p:cNvPicPr/>
          <p:nvPr/>
        </p:nvPicPr>
        <p:blipFill>
          <a:blip r:embed="rId1"/>
          <a:stretch/>
        </p:blipFill>
        <p:spPr>
          <a:xfrm>
            <a:off x="285840" y="1714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7375e"/>
                </a:solidFill>
                <a:latin typeface="Calibri"/>
              </a:rPr>
              <a:t>Irregular Sha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1371600"/>
                <a:tab algn="l" pos="1608120"/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You will need to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use more tab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stops if the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</a:rPr>
              <a:t>shape is not rectangular or maybe the odd spac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8:48:33Z</dcterms:created>
  <dc:creator>John Wilson</dc:creator>
  <dc:description/>
  <dc:language>en-US</dc:language>
  <cp:lastModifiedBy>John Wilson</cp:lastModifiedBy>
  <dcterms:modified xsi:type="dcterms:W3CDTF">2008-03-27T10:31:40Z</dcterms:modified>
  <cp:revision>10</cp:revision>
  <dc:subject/>
  <dc:title>Slide 1</dc:title>
</cp:coreProperties>
</file>